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Kempenf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Nottawasa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ACD9-3C3E-4611-B08C-6F4499F7A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F0DE-6441-4A5E-B29E-8BA4F3E06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340B-CBDB-4D99-872B-BAB1F3D4B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E17B-FFCB-4BA1-92CA-F46565830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38B4-FF30-4FC1-9F21-957280FE8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94664-D5FD-4244-A027-253302147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10FD-F450-4521-A0B0-041AFAF9F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1E53-9463-4203-81EF-F8E038C1C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142F-7D44-4651-A91B-F8A90A509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6F99-28BC-412C-8F54-F8439EE3B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148E-9941-4D8F-8ABD-3486EF47A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DA30-BF7A-4066-AAE2-BB2CCCC9E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28F2-B26E-4F84-B69C-8F1DF3AEAF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BDD0-98CD-476C-82E9-26EF844EE0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4:  Working With Students Who Are Strugg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</a:rPr>
              <a:t>Context -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create a profile of the struggling learner and identify how learning style, student self-efficacy and engagement play a role in student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explore available materials and connect strategies presented to my teach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0073-F0AE-4A02-9157-622B6445D7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fore/Part 1/Minds O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students struggle?  What does a struggling student look like?  Sound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struggling student using words or phrases on sticky notes and share your ideas with your table group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groups stack common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D985-B92F-4A9E-B66F-3E7D138056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7FC7-2449-4828-A53A-7A7C82C0F0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uring/Part 2/Actio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Centr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One:  Hands-On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Two:  Electronic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Three:  Digging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Four:  Guide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this approach and the associated questions support struggling learners?  All learn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C87F-29EA-4827-AC95-6F2FEF2AD8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fter/Part 3/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this approach and the associated questions support struggling learners?  All lear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your thoughts with an elbow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0C7C-B2C0-406B-A2A7-AC0BE9F149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shing for Your Thou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he following qu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 great fisherman, you have to think like a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note a couple of thoughts in your journal, and attach the fish charm to your fishing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ACD-C1A0-402E-9892-C81F2FA319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shing for Your Thou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ould like to send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way with our 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Fishes”, and thos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buddies from the fishing lodge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travels an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the holes in your net be no larger than the fish in it!” (Irish bless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155F-EB54-4AF4-8892-B9155CB902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cchaput\Local Settings\Temporary Internet Files\Content.IE5\O1MRSPYJ\MP900438393[1].jpg"/>
          <p:cNvPicPr/>
          <p:nvPr/>
        </p:nvPicPr>
        <p:blipFill>
          <a:blip r:embed="rId1"/>
          <a:stretch/>
        </p:blipFill>
        <p:spPr>
          <a:xfrm>
            <a:off x="5486400" y="1295280"/>
            <a:ext cx="2895480" cy="194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S</cp:lastModifiedBy>
  <dcterms:modified xsi:type="dcterms:W3CDTF">2011-08-12T14:46:20Z</dcterms:modified>
  <cp:revision>8</cp:revision>
  <dc:subject/>
  <dc:title>&lt;Title&gt;</dc:title>
</cp:coreProperties>
</file>